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D1FF-8119-411D-B804-3C752B55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C0BE-91C6-418E-B960-A3E3DDC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86DD-D53D-4A74-8B0D-6C638C7C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A969-52F3-4B90-B983-07D3D368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A9B-0929-451F-A5A2-F399BA3E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16B3-6440-4296-A8ED-478CA51C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4AD6-52AC-47EC-953A-1D440614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B118-E2B4-4E4C-80E4-08F7A67D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657-A2F3-46F0-B68A-49463121A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4602-4128-4EC5-BE87-083F41CA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C77-0FD5-4595-9346-93CE80A8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6C8-9B04-4CDD-859B-6C6870E0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663C-1B58-4B3E-B6B1-171F5F0603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ABOUT 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685800" y="3733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WE JUST A PIECE OF DAT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TH LENGTH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7th Grade Talented &amp; Gifted 004"/>
          <p:cNvPicPr/>
          <p:nvPr/>
        </p:nvPicPr>
        <p:blipFill>
          <a:blip r:embed="rId1"/>
          <a:srcRect l="0" t="10608" r="0" b="0"/>
          <a:stretch/>
        </p:blipFill>
        <p:spPr>
          <a:xfrm>
            <a:off x="1447920" y="1600200"/>
            <a:ext cx="670068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124080" y="0"/>
          <a:ext cx="3048120" cy="6686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(inch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6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9.8 in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838080" y="35053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1683360" y="213372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16.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447920"/>
          <a:ext cx="4038840" cy="515124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8" name="TextBox 2"/>
          <p:cNvSpPr/>
          <p:nvPr/>
        </p:nvSpPr>
        <p:spPr>
          <a:xfrm>
            <a:off x="400680" y="533520"/>
            <a:ext cx="84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TH LENGTH Z-SCORE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RTH LENGTH Z-SCORE BREAKD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s represent the standard dev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95280" y="2895480"/>
          <a:ext cx="6096240" cy="22258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g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-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371600" y="0"/>
          <a:ext cx="4572000" cy="6686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.8 in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1757880" y="205740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3.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WE ARE 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7th Grade Talented &amp; Gifted 003.JPG"/>
          <p:cNvPicPr/>
          <p:nvPr/>
        </p:nvPicPr>
        <p:blipFill>
          <a:blip r:embed="rId1"/>
          <a:stretch/>
        </p:blipFill>
        <p:spPr>
          <a:xfrm>
            <a:off x="1600200" y="182880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WEIGH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7th Grade Talented &amp; Gifted 005"/>
          <p:cNvPicPr/>
          <p:nvPr/>
        </p:nvPicPr>
        <p:blipFill>
          <a:blip r:embed="rId1"/>
          <a:srcRect l="0" t="10599" r="0" b="0"/>
          <a:stretch/>
        </p:blipFill>
        <p:spPr>
          <a:xfrm>
            <a:off x="1295280" y="1600200"/>
            <a:ext cx="67104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24080" y="0"/>
          <a:ext cx="3048120" cy="66866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 HAVE ARRIV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nursery3.jpg"/>
          <p:cNvPicPr/>
          <p:nvPr/>
        </p:nvPicPr>
        <p:blipFill>
          <a:blip r:embed="rId1"/>
          <a:stretch/>
        </p:blipFill>
        <p:spPr>
          <a:xfrm>
            <a:off x="2057400" y="3352680"/>
            <a:ext cx="4714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2974680" y="228600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5053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3.1 lb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838080" y="350532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7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1758600" y="198108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581280" y="1295280"/>
          <a:ext cx="2362320" cy="5235840"/>
        </p:xfrm>
        <a:graphic>
          <a:graphicData uri="http://schemas.openxmlformats.org/drawingml/2006/table">
            <a:tbl>
              <a:tblPr/>
              <a:tblGrid>
                <a:gridCol w="885960"/>
                <a:gridCol w="689040"/>
                <a:gridCol w="78732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TextBox 2"/>
          <p:cNvSpPr/>
          <p:nvPr/>
        </p:nvSpPr>
        <p:spPr>
          <a:xfrm>
            <a:off x="1233720" y="609480"/>
            <a:ext cx="707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 Z-SCORE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EIGHT Z-SCORE BREAK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s represent the standard dev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47920" y="2743200"/>
          <a:ext cx="6095880" cy="22255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z &lt; 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124080" y="0"/>
          <a:ext cx="3048120" cy="6772320"/>
        </p:xfrm>
        <a:graphic>
          <a:graphicData uri="http://schemas.openxmlformats.org/drawingml/2006/table">
            <a:tbl>
              <a:tblPr/>
              <a:tblGrid>
                <a:gridCol w="1143000"/>
                <a:gridCol w="88920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2062080" y="2590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2895480" y="2209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8"/>
          <p:cNvSpPr/>
          <p:nvPr/>
        </p:nvSpPr>
        <p:spPr>
          <a:xfrm>
            <a:off x="35053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.4 lb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175248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26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HEIGH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7th Grade Talented &amp; Gifted 003"/>
          <p:cNvPicPr/>
          <p:nvPr/>
        </p:nvPicPr>
        <p:blipFill>
          <a:blip r:embed="rId1"/>
          <a:srcRect l="0" t="7713" r="0" b="0"/>
          <a:stretch/>
        </p:blipFill>
        <p:spPr>
          <a:xfrm>
            <a:off x="1143000" y="1600200"/>
            <a:ext cx="663588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124080" y="0"/>
          <a:ext cx="4114800" cy="668664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676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3.5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ft.  7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3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1 inch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2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4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2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ft. 9.5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1 inch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2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2.5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4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4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ft. 8.5 inch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8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2823120" y="2209680"/>
            <a:ext cx="5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1.9 in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1833480" y="21337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9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9"/>
          <p:cNvSpPr/>
          <p:nvPr/>
        </p:nvSpPr>
        <p:spPr>
          <a:xfrm>
            <a:off x="1830240" y="358128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429000" y="1579680"/>
          <a:ext cx="2666880" cy="4624200"/>
        </p:xfrm>
        <a:graphic>
          <a:graphicData uri="http://schemas.openxmlformats.org/drawingml/2006/table">
            <a:tbl>
              <a:tblPr/>
              <a:tblGrid>
                <a:gridCol w="933480"/>
                <a:gridCol w="844560"/>
                <a:gridCol w="888840"/>
              </a:tblGrid>
              <a:tr h="4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5" name="TextBox 2"/>
          <p:cNvSpPr/>
          <p:nvPr/>
        </p:nvSpPr>
        <p:spPr>
          <a:xfrm>
            <a:off x="457200" y="5335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IGHT Z-SCORE CALCUL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IGHT Z-SCORE BREAK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s represent the standard dev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00200" y="2819520"/>
          <a:ext cx="6095880" cy="22255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&gt;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RTH WEIGHT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7th Grade Talented &amp; Gifted 002.JPG"/>
          <p:cNvPicPr/>
          <p:nvPr/>
        </p:nvPicPr>
        <p:blipFill>
          <a:blip r:embed="rId1"/>
          <a:stretch/>
        </p:blipFill>
        <p:spPr>
          <a:xfrm>
            <a:off x="1447920" y="16002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124080" y="0"/>
          <a:ext cx="3048120" cy="6772320"/>
        </p:xfrm>
        <a:graphic>
          <a:graphicData uri="http://schemas.openxmlformats.org/drawingml/2006/table">
            <a:tbl>
              <a:tblPr/>
              <a:tblGrid>
                <a:gridCol w="1067040"/>
                <a:gridCol w="96516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(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8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6.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138400" y="259092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8"/>
          <p:cNvSpPr/>
          <p:nvPr/>
        </p:nvSpPr>
        <p:spPr>
          <a:xfrm>
            <a:off x="335268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1 inch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1910520" y="213372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3.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baby footprints 2.bmp"/>
          <p:cNvPicPr/>
          <p:nvPr/>
        </p:nvPicPr>
        <p:blipFill>
          <a:blip r:embed="rId1"/>
          <a:stretch/>
        </p:blipFill>
        <p:spPr>
          <a:xfrm>
            <a:off x="762120" y="1828800"/>
            <a:ext cx="2657520" cy="26575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4113720" y="2438280"/>
            <a:ext cx="76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tennis shoes.jpg"/>
          <p:cNvPicPr/>
          <p:nvPr/>
        </p:nvPicPr>
        <p:blipFill>
          <a:blip r:embed="rId2"/>
          <a:stretch/>
        </p:blipFill>
        <p:spPr>
          <a:xfrm>
            <a:off x="5054760" y="1508040"/>
            <a:ext cx="340344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523880" y="1295280"/>
          <a:ext cx="2971800" cy="270036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5105520" y="1295280"/>
          <a:ext cx="3276360" cy="4829400"/>
        </p:xfrm>
        <a:graphic>
          <a:graphicData uri="http://schemas.openxmlformats.org/drawingml/2006/table">
            <a:tbl>
              <a:tblPr/>
              <a:tblGrid>
                <a:gridCol w="175248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TextBox 3"/>
          <p:cNvSpPr/>
          <p:nvPr/>
        </p:nvSpPr>
        <p:spPr>
          <a:xfrm>
            <a:off x="2362320" y="457200"/>
            <a:ext cx="12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257880" y="38088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839160" y="297180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984680" y="320040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593800" y="28954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3048120" y="297180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914400" y="43434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1680480" y="281952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9.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1596240" y="198108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1830960" y="44197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6330240" y="190512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5566680" y="28954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7"/>
          <p:cNvSpPr/>
          <p:nvPr/>
        </p:nvSpPr>
        <p:spPr>
          <a:xfrm>
            <a:off x="6483600" y="27432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83.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8"/>
          <p:cNvSpPr/>
          <p:nvPr/>
        </p:nvSpPr>
        <p:spPr>
          <a:xfrm>
            <a:off x="6634080" y="32004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9"/>
          <p:cNvSpPr/>
          <p:nvPr/>
        </p:nvSpPr>
        <p:spPr>
          <a:xfrm>
            <a:off x="7474320" y="29718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7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"/>
          <p:cNvSpPr/>
          <p:nvPr/>
        </p:nvSpPr>
        <p:spPr>
          <a:xfrm>
            <a:off x="5568480" y="4267080"/>
            <a:ext cx="87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1"/>
          <p:cNvSpPr/>
          <p:nvPr/>
        </p:nvSpPr>
        <p:spPr>
          <a:xfrm>
            <a:off x="6479280" y="434340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685800" y="1371600"/>
          <a:ext cx="3429000" cy="2914560"/>
        </p:xfrm>
        <a:graphic>
          <a:graphicData uri="http://schemas.openxmlformats.org/drawingml/2006/table">
            <a:tbl>
              <a:tblPr/>
              <a:tblGrid>
                <a:gridCol w="1447920"/>
                <a:gridCol w="838080"/>
                <a:gridCol w="114300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105520" y="1163520"/>
          <a:ext cx="3276360" cy="4726080"/>
        </p:xfrm>
        <a:graphic>
          <a:graphicData uri="http://schemas.openxmlformats.org/drawingml/2006/table">
            <a:tbl>
              <a:tblPr/>
              <a:tblGrid>
                <a:gridCol w="1197000"/>
                <a:gridCol w="1039680"/>
                <a:gridCol w="103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1" name="TextBox 3"/>
          <p:cNvSpPr/>
          <p:nvPr/>
        </p:nvSpPr>
        <p:spPr>
          <a:xfrm>
            <a:off x="1600200" y="457200"/>
            <a:ext cx="12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6257880" y="38088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OE SIZE Z-SCORE BREAKDOW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alues represent the standard devi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3880" y="2514600"/>
          <a:ext cx="6096240" cy="2225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 &gt;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&lt;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&lt; 0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&lt; 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&lt; -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685800" y="1371600"/>
          <a:ext cx="3429000" cy="3352680"/>
        </p:xfrm>
        <a:graphic>
          <a:graphicData uri="http://schemas.openxmlformats.org/drawingml/2006/table">
            <a:tbl>
              <a:tblPr/>
              <a:tblGrid>
                <a:gridCol w="1447920"/>
                <a:gridCol w="838080"/>
                <a:gridCol w="1143000"/>
              </a:tblGrid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i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.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5105520" y="1163520"/>
          <a:ext cx="3276360" cy="5092920"/>
        </p:xfrm>
        <a:graphic>
          <a:graphicData uri="http://schemas.openxmlformats.org/drawingml/2006/table">
            <a:tbl>
              <a:tblPr/>
              <a:tblGrid>
                <a:gridCol w="1197000"/>
                <a:gridCol w="1039680"/>
                <a:gridCol w="1039680"/>
              </a:tblGrid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E SIZ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i="1" lang="en-US" sz="18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.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68" name="TextBox 3"/>
          <p:cNvSpPr/>
          <p:nvPr/>
        </p:nvSpPr>
        <p:spPr>
          <a:xfrm>
            <a:off x="1600200" y="457200"/>
            <a:ext cx="127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OY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6257880" y="380880"/>
            <a:ext cx="135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915480" y="31240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"/>
          <p:cNvSpPr/>
          <p:nvPr/>
        </p:nvSpPr>
        <p:spPr>
          <a:xfrm>
            <a:off x="1908360" y="3505320"/>
            <a:ext cx="3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2517480" y="31240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3048120" y="32004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5414400" y="304812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3"/>
          <p:cNvSpPr/>
          <p:nvPr/>
        </p:nvSpPr>
        <p:spPr>
          <a:xfrm>
            <a:off x="1754640" y="3048120"/>
            <a:ext cx="70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4.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6252480" y="2971800"/>
            <a:ext cx="90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4.7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6405480" y="34290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6"/>
          <p:cNvSpPr/>
          <p:nvPr/>
        </p:nvSpPr>
        <p:spPr>
          <a:xfrm>
            <a:off x="7245720" y="31240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= 1.3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7"/>
          <p:cNvSpPr/>
          <p:nvPr/>
        </p:nvSpPr>
        <p:spPr>
          <a:xfrm>
            <a:off x="1519920" y="2286000"/>
            <a:ext cx="10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OY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8"/>
          <p:cNvSpPr/>
          <p:nvPr/>
        </p:nvSpPr>
        <p:spPr>
          <a:xfrm>
            <a:off x="6025680" y="2286000"/>
            <a:ext cx="11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828800" y="304920"/>
          <a:ext cx="5867280" cy="6029280"/>
        </p:xfrm>
        <a:graphic>
          <a:graphicData uri="http://schemas.openxmlformats.org/drawingml/2006/table">
            <a:tbl>
              <a:tblPr/>
              <a:tblGrid>
                <a:gridCol w="1955880"/>
                <a:gridCol w="1955880"/>
                <a:gridCol w="195552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LIA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 BIRTH WEIGH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8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0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1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11.5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10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4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1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lbs. 12.5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6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8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3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0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8 oz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7.5 ou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838080" y="350532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5.6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1758600" y="205740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88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260360"/>
          <a:ext cx="3733920" cy="5151600"/>
        </p:xfrm>
        <a:graphic>
          <a:graphicData uri="http://schemas.openxmlformats.org/drawingml/2006/table">
            <a:tbl>
              <a:tblPr/>
              <a:tblGrid>
                <a:gridCol w="1244880"/>
                <a:gridCol w="1244520"/>
                <a:gridCol w="1244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6" name="TextBox 2"/>
          <p:cNvSpPr/>
          <p:nvPr/>
        </p:nvSpPr>
        <p:spPr>
          <a:xfrm>
            <a:off x="325800" y="457200"/>
            <a:ext cx="85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RTH WEIGHT Z-SCORE CALCUL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IRTH WEIGHT Z-SCORE BREAKDOW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00200" y="2666880"/>
          <a:ext cx="6095880" cy="23018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TUDENT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 &lt; z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&lt;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9" name="TextBox 3"/>
          <p:cNvSpPr/>
          <p:nvPr/>
        </p:nvSpPr>
        <p:spPr>
          <a:xfrm>
            <a:off x="691560" y="1676520"/>
            <a:ext cx="84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values represent the standard deviation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71600" y="0"/>
          <a:ext cx="4572000" cy="6686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iano Gu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olet Blu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bbl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ex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ach Gir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.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llow 20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al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x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g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bal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13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.5 ounce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1833480" y="205740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0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2:13:24Z</dcterms:created>
  <dc:creator>ECPS-User</dc:creator>
  <dc:description/>
  <dc:language>en-US</dc:language>
  <cp:lastModifiedBy>Sharon Chancey</cp:lastModifiedBy>
  <dcterms:modified xsi:type="dcterms:W3CDTF">2010-11-03T21:18:36Z</dcterms:modified>
  <cp:revision>49</cp:revision>
  <dc:subject/>
  <dc:title>ALL ABOUT US!</dc:title>
</cp:coreProperties>
</file>